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5FF4-3E78-4CEC-BB2D-A7AAF909E0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550E-4D6F-4B8F-84F0-E3B96E05E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525DD-13D3-4DE2-B5DC-F3BBFE8341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7E824-C8CE-4ECE-B3CE-FB9CF3786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B3AA-235C-4147-9CE7-6AA440476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A79F-38BD-4603-B2B1-E2A315C3F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5DEE1-18FA-4E47-8DBE-463DF9B7F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3230F-BF07-445E-A482-7CB04890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4475-82AF-467B-976D-5B90A4A62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07356-8F14-4654-B02C-7885F2B7F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52B7-5967-4EC6-B890-C8792EB3E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1C3A9-07BD-4736-80BC-0351DCCDE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22531-117D-4159-8E27-1C4507C0EE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8600" y="0"/>
            <a:ext cx="8610480" cy="603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apter 2, Section 2/3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ebook Page 5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ll in the Bla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9900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99"/>
                </a:solidFill>
                <a:latin typeface="Arial"/>
              </a:rPr>
              <a:t>Pouring cold milk into hot chocolate is an example of _______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6600"/>
                </a:solidFill>
                <a:latin typeface="Arial"/>
              </a:rPr>
              <a:t>2. Opening the bathroom door after a hot shower is an example of ______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Arial"/>
              </a:rPr>
              <a:t>3. Feeling the warmth of the sun on your face is an example of ______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Arial"/>
              </a:rPr>
              <a:t>4. A hot pencil touching a cold desk is an example of _________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5. Cold air is ____________ dense than hot ai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ff"/>
                </a:solidFill>
                <a:latin typeface="Arial"/>
              </a:rPr>
              <a:t>6. Wind blows from areas of _________ pressure to areas of low pressur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7T14:31:37Z</dcterms:created>
  <dc:creator>balber</dc:creator>
  <dc:description/>
  <dc:language>en-US</dc:language>
  <cp:lastModifiedBy>balber</cp:lastModifiedBy>
  <dcterms:modified xsi:type="dcterms:W3CDTF">2008-12-17T14:32:20Z</dcterms:modified>
  <cp:revision>1</cp:revision>
  <dc:subject/>
  <dc:title>Slide 1</dc:title>
</cp:coreProperties>
</file>